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7.png" ContentType="image/png"/>
  <Override PartName="/ppt/media/image23.wmf" ContentType="image/x-wmf"/>
  <Override PartName="/ppt/media/image11.jpeg" ContentType="image/jpeg"/>
  <Override PartName="/ppt/media/image8.png" ContentType="image/png"/>
  <Override PartName="/ppt/media/image9.wmf" ContentType="image/x-wmf"/>
  <Override PartName="/ppt/media/image14.png" ContentType="image/png"/>
  <Override PartName="/ppt/media/image34.wmf" ContentType="image/x-wmf"/>
  <Override PartName="/ppt/media/image28.png" ContentType="image/png"/>
  <Override PartName="/ppt/media/image13.wmf" ContentType="image/x-wmf"/>
  <Override PartName="/ppt/media/image30.jpeg" ContentType="image/jpeg"/>
  <Override PartName="/ppt/media/image37.wmf" ContentType="image/x-wmf"/>
  <Override PartName="/ppt/media/image32.wmf" ContentType="image/x-wmf"/>
  <Override PartName="/ppt/media/image12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16.png" ContentType="image/png"/>
  <Override PartName="/ppt/media/image18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225-BEA8-41E3-B19D-784FF6D8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1472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4DC-7BCE-40F4-95B8-6203C3E7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1472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41472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96A-A350-452E-95F2-BA12921E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998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998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1472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41472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41472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975-EAA0-4989-9F8E-274246A1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FB7-87C2-44A0-B506-62D968C4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E18-2AE8-445F-B24A-A3B2F55E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022-B9B3-4208-A120-2663B72D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675-6C4B-476F-A388-4501CBA3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FD3-D4F1-4D5E-9862-40A775B8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1472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153-A2A3-4860-8539-F24FFA6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41472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422-A593-4C19-9BF2-011AE381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1472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38E-2D32-410F-AA65-BB14971F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StarbabeHmkBold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StarbabeHmk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StarbabeHmk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StarbabeHmk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StarbabeHmk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StarbabeHmk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F080-D208-44CA-B796-2C9EDDEB5590}" type="datetime">
              <a:rPr b="0" lang="en-US" sz="1000" spc="-1" strike="noStrike">
                <a:solidFill>
                  <a:srgbClr val="f8f8f8"/>
                </a:solidFill>
                <a:latin typeface="StarbabeHmkBold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StarbabeHmk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StarbabeHmkBold"/>
              </a:rPr>
              <a:t>H.M. Bod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StarbabeHmk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81AE-C191-4259-BD84-39744F571FE1}" type="slidenum">
              <a:rPr b="0" lang="en-US" sz="1000" spc="-1" strike="noStrike">
                <a:solidFill>
                  <a:srgbClr val="f8f8f8"/>
                </a:solidFill>
                <a:latin typeface="StarbabeHmk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file:///weather.mp4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61920"/>
            <a:ext cx="9325080" cy="69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4920" y="2708280"/>
            <a:ext cx="5616360" cy="15112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8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StarbabeHmkBold"/>
                <a:ea typeface="NtMotoyaKyotai"/>
              </a:rPr>
              <a:t>て ん き</a:t>
            </a:r>
            <a:endParaRPr b="0" lang="en-US" sz="96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530064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Comic Sans MS"/>
              </a:rPr>
              <a:t>WEATH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5373720"/>
            <a:ext cx="5796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つよ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45943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1700280"/>
            <a:ext cx="5796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よい</a:t>
            </a:r>
            <a:r>
              <a:rPr b="0" lang="en-NZ" sz="72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/</a:t>
            </a: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い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2784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oo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280" y="517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80" y="456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280" y="601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280" y="39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181080" y="3860640"/>
            <a:ext cx="2270160" cy="2592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11280" y="5373720"/>
            <a:ext cx="763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てんきが、よい</a:t>
            </a:r>
            <a:r>
              <a:rPr b="0" lang="en-NZ" sz="60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/</a:t>
            </a:r>
            <a:r>
              <a:rPr b="1" lang="ja-JP" sz="60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4292640"/>
            <a:ext cx="72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よい</a:t>
            </a:r>
            <a:r>
              <a:rPr b="0" lang="en-NZ" sz="60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/</a:t>
            </a:r>
            <a:r>
              <a:rPr b="1" lang="ja-JP" sz="7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いいてん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4360" y="1412280"/>
            <a:ext cx="2071440" cy="156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68360" y="2924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1700280"/>
            <a:ext cx="5796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わる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516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280" y="517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280" y="456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280" y="601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280" y="39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5661000"/>
            <a:ext cx="71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てんきが、わる</a:t>
            </a:r>
            <a:r>
              <a:rPr b="1" lang="ja-JP" sz="66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8000" y="4076640"/>
            <a:ext cx="669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わるいてん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2760840" cy="2001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 flipH="1" rot="10800000">
            <a:off x="1042200" y="1628640"/>
            <a:ext cx="2071800" cy="1570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771640" y="2924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4941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eather 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5373720"/>
            <a:ext cx="7956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てんきよほ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396108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00000" y="2708280"/>
            <a:ext cx="7344000" cy="1368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ow to 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It is sunny today.”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 from www.brainybetty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FEC-0365-4067-B2FE-B9A86C62F9B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E3A74-DB5A-4A2A-A501-5290EB4872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89000"/>
            <a:ext cx="7558200" cy="1143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8f8f8"/>
                </a:solidFill>
                <a:latin typeface="Comic Sans MS"/>
              </a:rPr>
              <a:t>Present ten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133720"/>
            <a:ext cx="194472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図 103" descr="C:\Users\Chitose Izuno\AppData\Local\Microsoft\Windows\Temporary Internet Files\Content.IE5\RH9HXTP3\MCj04462740000[1].wmf"/>
          <p:cNvPicPr/>
          <p:nvPr/>
        </p:nvPicPr>
        <p:blipFill>
          <a:blip r:embed="rId2"/>
          <a:stretch/>
        </p:blipFill>
        <p:spPr>
          <a:xfrm>
            <a:off x="4427640" y="1773360"/>
            <a:ext cx="1890720" cy="166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0" y="350028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unny/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4076640"/>
            <a:ext cx="244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076640"/>
            <a:ext cx="302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ょ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4076640"/>
            <a:ext cx="1224000" cy="1079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076640"/>
            <a:ext cx="1871640" cy="1081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8360" y="4005360"/>
            <a:ext cx="576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3068640"/>
            <a:ext cx="1295280" cy="1008000"/>
          </a:xfrm>
          <a:prstGeom prst="wedgeEllipseCallout">
            <a:avLst>
              <a:gd name="adj1" fmla="val -57351"/>
              <a:gd name="adj2" fmla="val 6512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189000"/>
            <a:ext cx="7558200" cy="1143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Past</a:t>
            </a:r>
            <a:r>
              <a:rPr b="0" lang="en-NZ" sz="6000" spc="-1" strike="noStrike">
                <a:solidFill>
                  <a:srgbClr val="f8f8f8"/>
                </a:solidFill>
                <a:latin typeface="Comic Sans MS"/>
              </a:rPr>
              <a:t> ten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628640"/>
            <a:ext cx="2232000" cy="13687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80000" y="2924280"/>
            <a:ext cx="2447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997360"/>
            <a:ext cx="302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の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2997360"/>
            <a:ext cx="1224000" cy="107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2924280"/>
            <a:ext cx="2737080" cy="1081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67640" y="2997360"/>
            <a:ext cx="576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図 39" descr="https://minnanokyozai.jp/kyozai/material/IUM00215/ium00215.gif"/>
          <p:cNvPicPr/>
          <p:nvPr/>
        </p:nvPicPr>
        <p:blipFill>
          <a:blip r:embed="rId2"/>
          <a:stretch/>
        </p:blipFill>
        <p:spPr>
          <a:xfrm>
            <a:off x="4067280" y="1557360"/>
            <a:ext cx="2017440" cy="1461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076720" y="242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in/ra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6360" y="1916280"/>
            <a:ext cx="1295280" cy="936360"/>
          </a:xfrm>
          <a:prstGeom prst="wedgeEllipseCallout">
            <a:avLst>
              <a:gd name="adj1" fmla="val -56986"/>
              <a:gd name="adj2" fmla="val 8712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157720"/>
            <a:ext cx="2232000" cy="792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last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4221000"/>
            <a:ext cx="2232000" cy="792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is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5084640"/>
            <a:ext cx="2232000" cy="792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66000"/>
            <a:ext cx="2232000" cy="7920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292640"/>
            <a:ext cx="2232000" cy="7920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27280" y="4221000"/>
            <a:ext cx="2087640" cy="8251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きの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8720" y="4076640"/>
            <a:ext cx="1476360" cy="8251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け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5157720"/>
            <a:ext cx="2087640" cy="8251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ゆう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5977080"/>
            <a:ext cx="3311640" cy="8251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せんしゅ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5157720"/>
            <a:ext cx="212400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おとと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9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900"/>
                            </p:stCondLst>
                            <p:childTnLst>
                              <p:par>
                                <p:cTn id="5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400"/>
                            </p:stCondLst>
                            <p:childTnLst>
                              <p:par>
                                <p:cTn id="5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250"/>
                            </p:stCondLst>
                            <p:childTnLst>
                              <p:par>
                                <p:cTn id="5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189000"/>
            <a:ext cx="7558200" cy="1143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8f8f8"/>
                </a:solidFill>
                <a:latin typeface="Comic Sans MS"/>
              </a:rPr>
              <a:t>Present ten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2133720"/>
            <a:ext cx="194436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図 103" descr="C:\Users\Chitose Izuno\AppData\Local\Microsoft\Windows\Temporary Internet Files\Content.IE5\RH9HXTP3\MCj04462740000[1].wmf"/>
          <p:cNvPicPr/>
          <p:nvPr/>
        </p:nvPicPr>
        <p:blipFill>
          <a:blip r:embed="rId2"/>
          <a:stretch/>
        </p:blipFill>
        <p:spPr>
          <a:xfrm>
            <a:off x="4716360" y="1773360"/>
            <a:ext cx="1890720" cy="1663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0" y="350028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unny/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4076640"/>
            <a:ext cx="244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076640"/>
            <a:ext cx="302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ょ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4076640"/>
            <a:ext cx="1224000" cy="1079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4076640"/>
            <a:ext cx="1871640" cy="1081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8360" y="4005360"/>
            <a:ext cx="576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3068640"/>
            <a:ext cx="1295280" cy="1008000"/>
          </a:xfrm>
          <a:prstGeom prst="wedgeEllipseCallout">
            <a:avLst>
              <a:gd name="adj1" fmla="val -57351"/>
              <a:gd name="adj2" fmla="val 6512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クリックすると新しいウィンドウで開きます"/>
          <p:cNvPicPr/>
          <p:nvPr/>
        </p:nvPicPr>
        <p:blipFill>
          <a:blip r:embed="rId3"/>
          <a:stretch/>
        </p:blipFill>
        <p:spPr>
          <a:xfrm>
            <a:off x="2484360" y="2133720"/>
            <a:ext cx="2087640" cy="1384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5877000"/>
            <a:ext cx="44431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NtMotoyaKyotai"/>
              </a:rPr>
              <a:t>ア</a:t>
            </a:r>
            <a:r>
              <a:rPr b="1" lang="ja-JP" sz="4000" spc="-1" strike="noStrike">
                <a:solidFill>
                  <a:srgbClr val="ff3399"/>
                </a:solidFill>
                <a:latin typeface="Arial"/>
                <a:ea typeface="NtMotoyaKyotai"/>
              </a:rPr>
              <a:t>ッ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NtMotoyaKyotai"/>
              </a:rPr>
              <a:t>パー　ハ</a:t>
            </a:r>
            <a:r>
              <a:rPr b="1" lang="ja-JP" sz="4000" spc="-1" strike="noStrike">
                <a:solidFill>
                  <a:srgbClr val="ff3399"/>
                </a:solidFill>
                <a:latin typeface="Arial"/>
                <a:ea typeface="NtMotoyaKyotai"/>
              </a:rPr>
              <a:t>ッ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NtMotoyaKyotai"/>
              </a:rPr>
              <a:t>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299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Upper Hu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84360" y="4653000"/>
            <a:ext cx="503280" cy="1224000"/>
          </a:xfrm>
          <a:prstGeom prst="up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3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1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189000"/>
            <a:ext cx="7558200" cy="1143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Probabil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1628640"/>
            <a:ext cx="2232000" cy="13687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m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2924280"/>
            <a:ext cx="273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くも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181080" y="2924280"/>
            <a:ext cx="277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し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2924280"/>
            <a:ext cx="936720" cy="107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80000" y="2924280"/>
            <a:ext cx="3564000" cy="1081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ょ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75640" y="3068640"/>
            <a:ext cx="649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2205000"/>
            <a:ext cx="2340000" cy="647640"/>
          </a:xfrm>
          <a:prstGeom prst="wedgeEllipseCallout">
            <a:avLst>
              <a:gd name="adj1" fmla="val -24356"/>
              <a:gd name="adj2" fmla="val 121324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oba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5157720"/>
            <a:ext cx="2232000" cy="792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his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4221000"/>
            <a:ext cx="2232000" cy="792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is even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5084640"/>
            <a:ext cx="2232000" cy="792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day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066000"/>
            <a:ext cx="2232000" cy="7920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292640"/>
            <a:ext cx="2232000" cy="7920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m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84360" y="4149720"/>
            <a:ext cx="2087640" cy="8251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あ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99280" y="4221000"/>
            <a:ext cx="1944720" cy="76428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こん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68360" y="5229360"/>
            <a:ext cx="259092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こんしゅ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68360" y="6221520"/>
            <a:ext cx="2376720" cy="5814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らいしゅ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20000" y="5157720"/>
            <a:ext cx="212400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あさっ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図 125" descr="C:\Users\Chitose Izuno\AppData\Local\Microsoft\Windows\Temporary Internet Files\Content.IE5\V27P2MQK\MCj04325870000[1].png"/>
          <p:cNvPicPr/>
          <p:nvPr/>
        </p:nvPicPr>
        <p:blipFill>
          <a:blip r:embed="rId2"/>
          <a:stretch/>
        </p:blipFill>
        <p:spPr>
          <a:xfrm>
            <a:off x="3995640" y="1052640"/>
            <a:ext cx="1938600" cy="1938240"/>
          </a:xfrm>
          <a:prstGeom prst="rect">
            <a:avLst/>
          </a:prstGeom>
          <a:ln w="0">
            <a:noFill/>
          </a:ln>
        </p:spPr>
      </p:pic>
      <p:pic>
        <p:nvPicPr>
          <p:cNvPr id="251" name="図 130" descr="C:\Users\Chitose Izuno\AppData\Local\Microsoft\Windows\Temporary Internet Files\Content.IE5\25801DQE\MCj04325910000[1].png"/>
          <p:cNvPicPr/>
          <p:nvPr/>
        </p:nvPicPr>
        <p:blipFill>
          <a:blip r:embed="rId3"/>
          <a:stretch/>
        </p:blipFill>
        <p:spPr>
          <a:xfrm>
            <a:off x="4932360" y="1413000"/>
            <a:ext cx="1650960" cy="1650960"/>
          </a:xfrm>
          <a:prstGeom prst="rect">
            <a:avLst/>
          </a:prstGeom>
          <a:ln w="0">
            <a:noFill/>
          </a:ln>
        </p:spPr>
      </p:pic>
      <p:pic>
        <p:nvPicPr>
          <p:cNvPr id="252" name="図 130" descr="C:\Users\Chitose Izuno\AppData\Local\Microsoft\Windows\Temporary Internet Files\Content.IE5\25801DQE\MCj04325910000[1].png"/>
          <p:cNvPicPr/>
          <p:nvPr/>
        </p:nvPicPr>
        <p:blipFill>
          <a:blip r:embed="rId4"/>
          <a:stretch/>
        </p:blipFill>
        <p:spPr>
          <a:xfrm>
            <a:off x="3348000" y="141300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flipH="1">
            <a:off x="4211640" y="2492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lo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43280" y="6066000"/>
            <a:ext cx="2232360" cy="7920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week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96000" y="6093000"/>
            <a:ext cx="2448000" cy="5814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しゅうま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3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3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3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"/>
                            </p:stCondLst>
                            <p:childTnLst>
                              <p:par>
                                <p:cTn id="7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250"/>
                            </p:stCondLst>
                            <p:childTnLst>
                              <p:par>
                                <p:cTn id="7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650"/>
                            </p:stCondLst>
                            <p:childTnLst>
                              <p:par>
                                <p:cTn id="7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500"/>
                            </p:stCondLst>
                            <p:childTnLst>
                              <p:par>
                                <p:cTn id="7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1773360"/>
            <a:ext cx="6372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たたか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579132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ool (tempera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51280" y="4581360"/>
            <a:ext cx="511164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すずし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80" y="456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280" y="601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8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757600" cy="2431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484360" y="4581360"/>
            <a:ext cx="1586160" cy="1586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020000" y="1197000"/>
            <a:ext cx="1842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3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3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図 103" descr="C:\Users\Chitose Izuno\AppData\Local\Microsoft\Windows\Temporary Internet Files\Content.IE5\RH9HXTP3\MCj04462740000[1].wmf"/>
          <p:cNvPicPr/>
          <p:nvPr/>
        </p:nvPicPr>
        <p:blipFill>
          <a:blip r:embed="rId2"/>
          <a:stretch/>
        </p:blipFill>
        <p:spPr>
          <a:xfrm>
            <a:off x="2627280" y="1413000"/>
            <a:ext cx="3619440" cy="31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92360" y="4797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unny/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5373720"/>
            <a:ext cx="3816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16720" y="4952880"/>
            <a:ext cx="2627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9" descr="C:\Users\Chitose Izuno\AppData\Local\Microsoft\Windows\Temporary Internet Files\Content.IE5\V27P2MQK\MCPE06296_0000[1].wmf"/>
          <p:cNvPicPr/>
          <p:nvPr/>
        </p:nvPicPr>
        <p:blipFill>
          <a:blip r:embed="rId2"/>
          <a:stretch/>
        </p:blipFill>
        <p:spPr>
          <a:xfrm>
            <a:off x="755640" y="4005360"/>
            <a:ext cx="2427120" cy="2520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95640" y="1773360"/>
            <a:ext cx="5148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つ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62784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uggy/hu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13080" y="4581360"/>
            <a:ext cx="583092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むしあつ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28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997680" y="189000"/>
            <a:ext cx="2146320" cy="2035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79280" y="1341360"/>
            <a:ext cx="3564000" cy="2563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692360" y="3213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t (tempera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92360" y="5084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51280" y="1844640"/>
            <a:ext cx="4716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さむ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3745080" cy="2716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598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3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227640" y="5516640"/>
            <a:ext cx="3097440" cy="9367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ょ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</a:t>
            </a:r>
            <a:r>
              <a:rPr b="0" lang="en-NZ" sz="48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 </a:t>
            </a:r>
            <a:r>
              <a:rPr b="0" lang="en-NZ" sz="4800" spc="-1" strike="noStrike">
                <a:solidFill>
                  <a:srgbClr val="f8f8f8"/>
                </a:solidFill>
                <a:latin typeface="Comic Sans MS"/>
              </a:rPr>
              <a:t>Present ten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907920"/>
            <a:ext cx="1944720" cy="12258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2349360"/>
            <a:ext cx="280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さむ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76640"/>
            <a:ext cx="302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ょ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748720" y="2205000"/>
            <a:ext cx="5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1873080" cy="1357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508720" y="184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216000" y="61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216000" y="702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500280"/>
            <a:ext cx="9144000" cy="72072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</a:t>
            </a:r>
            <a:r>
              <a:rPr b="0" lang="de-DE" sz="48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 </a:t>
            </a:r>
            <a:r>
              <a:rPr b="0" lang="en-NZ" sz="48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4365720"/>
            <a:ext cx="2232000" cy="1150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m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5516640"/>
            <a:ext cx="374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たたか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04000" y="4437000"/>
            <a:ext cx="2340000" cy="647640"/>
          </a:xfrm>
          <a:prstGeom prst="wedgeEllipseCallout">
            <a:avLst>
              <a:gd name="adj1" fmla="val -42263"/>
              <a:gd name="adj2" fmla="val 16617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oba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508720" y="465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492360" y="3860640"/>
            <a:ext cx="1893960" cy="1670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-252360" y="5516640"/>
            <a:ext cx="2411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し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818560" y="5589720"/>
            <a:ext cx="64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71640" y="2276640"/>
            <a:ext cx="1224000" cy="107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79640" y="5516640"/>
            <a:ext cx="936720" cy="934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77080" y="2349360"/>
            <a:ext cx="1871640" cy="1081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51640" y="1413000"/>
            <a:ext cx="1295640" cy="1008000"/>
          </a:xfrm>
          <a:prstGeom prst="wedgeEllipseCallout">
            <a:avLst>
              <a:gd name="adj1" fmla="val -62990"/>
              <a:gd name="adj2" fmla="val 7000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3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3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600"/>
                            </p:stCondLst>
                            <p:childTnLst>
                              <p:par>
                                <p:cTn id="9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4600"/>
                            </p:stCondLst>
                            <p:childTnLst>
                              <p:par>
                                <p:cTn id="9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3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3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200"/>
                            </p:stCondLst>
                            <p:childTnLst>
                              <p:par>
                                <p:cTn id="9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3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3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3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3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rot="1086000">
            <a:off x="4068720" y="4581360"/>
            <a:ext cx="2089080" cy="122400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486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</a:t>
            </a:r>
            <a:r>
              <a:rPr b="0" lang="en-NZ" sz="60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 Past</a:t>
            </a:r>
            <a:r>
              <a:rPr b="0" lang="en-NZ" sz="6000" spc="-1" strike="noStrike">
                <a:solidFill>
                  <a:srgbClr val="f8f8f8"/>
                </a:solidFill>
                <a:latin typeface="Comic Sans MS"/>
              </a:rPr>
              <a:t> ten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2924280"/>
            <a:ext cx="223200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48000" y="4724280"/>
            <a:ext cx="18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72428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の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2556000" cy="1838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219640" y="37512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6360" y="4653000"/>
            <a:ext cx="122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4724280"/>
            <a:ext cx="280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f0000"/>
                </a:solidFill>
                <a:latin typeface="NtMotoyaKyotai"/>
                <a:ea typeface="NtMotoyaKyotai"/>
              </a:rPr>
              <a:t>かっ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9640" y="1413000"/>
            <a:ext cx="8353440" cy="82512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ke </a:t>
            </a:r>
            <a:r>
              <a:rPr b="1" lang="ja-JP" sz="4800" spc="-1" strike="noStrike">
                <a:solidFill>
                  <a:srgbClr val="006600"/>
                </a:solidFill>
                <a:latin typeface="Comic Sans MS"/>
                <a:ea typeface="NtMotoyaKyotai"/>
              </a:rPr>
              <a:t>い</a:t>
            </a:r>
            <a:r>
              <a:rPr b="0" lang="ja-JP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ff and put </a:t>
            </a:r>
            <a:r>
              <a:rPr b="1" lang="ja-JP" sz="4800" spc="-1" strike="noStrike">
                <a:solidFill>
                  <a:srgbClr val="ff0000"/>
                </a:solidFill>
                <a:latin typeface="Comic Sans MS"/>
                <a:ea typeface="NtMotoyaKyotai"/>
              </a:rPr>
              <a:t>かっ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4724280"/>
            <a:ext cx="1224000" cy="1079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72360" y="4724280"/>
            <a:ext cx="1871640" cy="1081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748720" y="4869000"/>
            <a:ext cx="576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3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3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3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2" dur="3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5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3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3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Nouns and 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な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9280" y="2133720"/>
            <a:ext cx="180036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図 103" descr="C:\Users\Chitose Izuno\AppData\Local\Microsoft\Windows\Temporary Internet Files\Content.IE5\RH9HXTP3\MCj04462740000[1].wmf"/>
          <p:cNvPicPr/>
          <p:nvPr/>
        </p:nvPicPr>
        <p:blipFill>
          <a:blip r:embed="rId2"/>
          <a:stretch/>
        </p:blipFill>
        <p:spPr>
          <a:xfrm>
            <a:off x="2627280" y="1989000"/>
            <a:ext cx="1674720" cy="1473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340000" y="3429000"/>
            <a:ext cx="19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unny/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95640" y="4076640"/>
            <a:ext cx="172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-181080" y="4076640"/>
            <a:ext cx="20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ょ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19280" y="4076640"/>
            <a:ext cx="792000" cy="792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40720" y="4005360"/>
            <a:ext cx="1403280" cy="865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818560" y="4076640"/>
            <a:ext cx="5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29272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932360" y="1844640"/>
            <a:ext cx="1893960" cy="1670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572000" y="4005360"/>
            <a:ext cx="32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たたか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80000" y="4076640"/>
            <a:ext cx="792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5013360"/>
            <a:ext cx="1008000" cy="936720"/>
          </a:xfrm>
          <a:prstGeom prst="upArrowCallout">
            <a:avLst>
              <a:gd name="adj1" fmla="val 26905"/>
              <a:gd name="adj2" fmla="val 26902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63640" y="62784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is sunny </a:t>
            </a:r>
            <a:r>
              <a:rPr b="0" lang="en-NZ" sz="3200" spc="-1" strike="noStrike">
                <a:solidFill>
                  <a:srgbClr val="ffff99"/>
                </a:solidFill>
                <a:latin typeface="Comic Sans MS"/>
              </a:rPr>
              <a:t>an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warm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3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3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3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3300"/>
                            </p:stCondLst>
                            <p:childTnLst>
                              <p:par>
                                <p:cTn id="1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3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77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4" dur="770" fill="hold"/>
                                        <p:tgtEl>
                                          <p:spTgt spid="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6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8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77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3" dur="77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5" dur="77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7" dur="77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516720" y="3500280"/>
            <a:ext cx="2627280" cy="7938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ょ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3500280"/>
            <a:ext cx="21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さむ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2089080" cy="1514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15636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-216000" y="702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1844640"/>
            <a:ext cx="2016360" cy="1150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429000"/>
            <a:ext cx="2050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818560" y="3429000"/>
            <a:ext cx="649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500280"/>
            <a:ext cx="792000" cy="79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図 39" descr="https://minnanokyozai.jp/kyozai/material/IUM00215/ium00215.gif"/>
          <p:cNvPicPr/>
          <p:nvPr/>
        </p:nvPicPr>
        <p:blipFill>
          <a:blip r:embed="rId3"/>
          <a:stretch/>
        </p:blipFill>
        <p:spPr>
          <a:xfrm>
            <a:off x="2627280" y="1628640"/>
            <a:ext cx="2017800" cy="1462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627280" y="25639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in/ra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00360" y="3429000"/>
            <a:ext cx="151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95640" y="3500280"/>
            <a:ext cx="79236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1280" y="4437000"/>
            <a:ext cx="1008000" cy="936720"/>
          </a:xfrm>
          <a:prstGeom prst="upArrowCallout">
            <a:avLst>
              <a:gd name="adj1" fmla="val 26905"/>
              <a:gd name="adj2" fmla="val 26902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57340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ill be rainy </a:t>
            </a:r>
            <a:r>
              <a:rPr b="0" lang="en-NZ" sz="3200" spc="-1" strike="noStrike">
                <a:solidFill>
                  <a:srgbClr val="ffff99"/>
                </a:solidFill>
                <a:latin typeface="Comic Sans MS"/>
              </a:rPr>
              <a:t>an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cold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Nouns and 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な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3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3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3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3900"/>
                            </p:stCondLst>
                            <p:childTnLst>
                              <p:par>
                                <p:cTn id="1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3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1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3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77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77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0" dur="77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2" dur="77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 rot="1086000">
            <a:off x="5292720" y="4005360"/>
            <a:ext cx="1584360" cy="112392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2133720"/>
            <a:ext cx="194472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図 103" descr="C:\Users\Chitose Izuno\AppData\Local\Microsoft\Windows\Temporary Internet Files\Content.IE5\RH9HXTP3\MCj04462740000[1].wmf"/>
          <p:cNvPicPr/>
          <p:nvPr/>
        </p:nvPicPr>
        <p:blipFill>
          <a:blip r:embed="rId2"/>
          <a:stretch/>
        </p:blipFill>
        <p:spPr>
          <a:xfrm>
            <a:off x="2627280" y="1989000"/>
            <a:ext cx="1674720" cy="14734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340000" y="3429000"/>
            <a:ext cx="19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unny/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95640" y="4076640"/>
            <a:ext cx="172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-181080" y="4076640"/>
            <a:ext cx="201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の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19280" y="4076640"/>
            <a:ext cx="720720" cy="792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40720" y="4005360"/>
            <a:ext cx="1403280" cy="865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818560" y="4076640"/>
            <a:ext cx="5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80000" y="4076640"/>
            <a:ext cx="7207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35280" y="5013360"/>
            <a:ext cx="1008000" cy="936720"/>
          </a:xfrm>
          <a:prstGeom prst="upArrowCallout">
            <a:avLst>
              <a:gd name="adj1" fmla="val 26905"/>
              <a:gd name="adj2" fmla="val 26902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32000" y="609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as sunny </a:t>
            </a:r>
            <a:r>
              <a:rPr b="0" lang="en-NZ" sz="3200" spc="-1" strike="noStrike">
                <a:solidFill>
                  <a:srgbClr val="ffff99"/>
                </a:solidFill>
                <a:latin typeface="Comic Sans MS"/>
              </a:rPr>
              <a:t>an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hot yester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56000" y="4005360"/>
            <a:ext cx="1511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8720" y="400536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80000" y="4076640"/>
            <a:ext cx="20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NtMotoyaKyotai"/>
                <a:ea typeface="NtMotoyaKyotai"/>
              </a:rPr>
              <a:t>かっ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4788000" y="1916280"/>
            <a:ext cx="2340000" cy="1838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156360" y="3141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Nouns and 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な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3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3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3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3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27" dur="3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3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3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3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3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7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9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1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77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6" dur="77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8" dur="77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0" dur="77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2133720"/>
            <a:ext cx="180036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図 103" descr="C:\Users\Chitose Izuno\AppData\Local\Microsoft\Windows\Temporary Internet Files\Content.IE5\RH9HXTP3\MCj04462740000[1].wmf"/>
          <p:cNvPicPr/>
          <p:nvPr/>
        </p:nvPicPr>
        <p:blipFill>
          <a:blip r:embed="rId2"/>
          <a:stretch/>
        </p:blipFill>
        <p:spPr>
          <a:xfrm>
            <a:off x="2340000" y="1989000"/>
            <a:ext cx="1674720" cy="14734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268360" y="342900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unny/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4076640"/>
            <a:ext cx="172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181080" y="4076640"/>
            <a:ext cx="20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ょ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19280" y="4076640"/>
            <a:ext cx="792000" cy="792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40720" y="4005360"/>
            <a:ext cx="1403280" cy="865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818560" y="4076640"/>
            <a:ext cx="5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4005360"/>
            <a:ext cx="21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さむ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03640" y="4005360"/>
            <a:ext cx="792360" cy="79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4869000"/>
            <a:ext cx="1008000" cy="936360"/>
          </a:xfrm>
          <a:prstGeom prst="upArrowCallout">
            <a:avLst>
              <a:gd name="adj1" fmla="val 26915"/>
              <a:gd name="adj2" fmla="val 26913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92360" y="602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is sunny </a:t>
            </a:r>
            <a:r>
              <a:rPr b="0" lang="en-NZ" sz="3200" spc="-1" strike="noStrike">
                <a:solidFill>
                  <a:srgbClr val="ff3399"/>
                </a:solidFill>
                <a:latin typeface="Comic Sans MS"/>
              </a:rPr>
              <a:t>but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col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1873440" cy="13572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659640" y="29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08360" y="4005360"/>
            <a:ext cx="1403280" cy="792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Nouns and 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な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3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3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3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3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3300"/>
                            </p:stCondLst>
                            <p:childTnLst>
                              <p:par>
                                <p:cTn id="14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3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3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77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2" dur="770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4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6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77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1" dur="77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3" dur="77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5" dur="77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2133720"/>
            <a:ext cx="180036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47640" y="4076640"/>
            <a:ext cx="13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252360" y="407664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し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58920" y="4076640"/>
            <a:ext cx="576360" cy="64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08720" y="4076640"/>
            <a:ext cx="1835280" cy="6476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ょ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854920" y="4149720"/>
            <a:ext cx="5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59280" y="4076640"/>
            <a:ext cx="27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たたか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7640" y="4076640"/>
            <a:ext cx="72072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51280" y="4941720"/>
            <a:ext cx="1008000" cy="936720"/>
          </a:xfrm>
          <a:prstGeom prst="upArrowCallout">
            <a:avLst>
              <a:gd name="adj1" fmla="val 26905"/>
              <a:gd name="adj2" fmla="val 26902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71640" y="59500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ill be rainy </a:t>
            </a:r>
            <a:r>
              <a:rPr b="0" lang="en-NZ" sz="3200" spc="-1" strike="noStrike">
                <a:solidFill>
                  <a:srgbClr val="ff3399"/>
                </a:solidFill>
                <a:latin typeface="Comic Sans MS"/>
              </a:rPr>
              <a:t>but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warm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00360" y="4076640"/>
            <a:ext cx="1942920" cy="6476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ょ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図 39" descr="https://minnanokyozai.jp/kyozai/material/IUM00215/ium00215.gif"/>
          <p:cNvPicPr/>
          <p:nvPr/>
        </p:nvPicPr>
        <p:blipFill>
          <a:blip r:embed="rId2"/>
          <a:stretch/>
        </p:blipFill>
        <p:spPr>
          <a:xfrm>
            <a:off x="2484360" y="2060640"/>
            <a:ext cx="2017800" cy="1461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484360" y="29955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in/ra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65308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1893960" cy="16700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Nouns and 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な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3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3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3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3900"/>
                            </p:stCondLst>
                            <p:childTnLst>
                              <p:par>
                                <p:cTn id="15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3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3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77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0" dur="770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2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4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77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9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1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3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9280" y="2133720"/>
            <a:ext cx="180036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76360" y="4076640"/>
            <a:ext cx="13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-252360" y="4076640"/>
            <a:ext cx="180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の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87280" y="4076640"/>
            <a:ext cx="576360" cy="64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28000" y="4076640"/>
            <a:ext cx="1116000" cy="6476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854920" y="4149720"/>
            <a:ext cx="5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00720" y="4076640"/>
            <a:ext cx="215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たた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67280" y="4076640"/>
            <a:ext cx="64908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51280" y="4941720"/>
            <a:ext cx="1008000" cy="936720"/>
          </a:xfrm>
          <a:prstGeom prst="upArrowCallout">
            <a:avLst>
              <a:gd name="adj1" fmla="val 26905"/>
              <a:gd name="adj2" fmla="val 26902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71640" y="59500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as rainy </a:t>
            </a:r>
            <a:r>
              <a:rPr b="0" lang="en-NZ" sz="3200" spc="-1" strike="noStrike">
                <a:solidFill>
                  <a:srgbClr val="ff3399"/>
                </a:solidFill>
                <a:latin typeface="Comic Sans MS"/>
              </a:rPr>
              <a:t>but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warm yester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27280" y="4076640"/>
            <a:ext cx="1584360" cy="6476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図 39" descr="https://minnanokyozai.jp/kyozai/material/IUM00215/ium00215.gif"/>
          <p:cNvPicPr/>
          <p:nvPr/>
        </p:nvPicPr>
        <p:blipFill>
          <a:blip r:embed="rId2"/>
          <a:stretch/>
        </p:blipFill>
        <p:spPr>
          <a:xfrm>
            <a:off x="2484360" y="2060640"/>
            <a:ext cx="2017800" cy="14619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484360" y="29955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in/ra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65308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1893960" cy="1670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 rot="1086000">
            <a:off x="5940360" y="4005360"/>
            <a:ext cx="1584360" cy="112392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400536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27640" y="4076640"/>
            <a:ext cx="20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NtMotoyaKyotai"/>
                <a:ea typeface="NtMotoyaKyotai"/>
              </a:rPr>
              <a:t>かっ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Nouns and 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な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0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3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3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3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3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55" dur="3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3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9" nodeType="after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60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4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3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3300"/>
                            </p:stCondLst>
                            <p:childTnLst>
                              <p:par>
                                <p:cTn id="16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3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3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77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3" dur="770" fill="hold"/>
                                        <p:tgtEl>
                                          <p:spTgt spid="4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5" dur="77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7" dur="77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77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2" dur="77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4" dur="77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6" dur="77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653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lo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5157720"/>
            <a:ext cx="662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く も 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図 125" descr="C:\Users\Chitose Izuno\AppData\Local\Microsoft\Windows\Temporary Internet Files\Content.IE5\V27P2MQK\MCj04325870000[1].png"/>
          <p:cNvPicPr/>
          <p:nvPr/>
        </p:nvPicPr>
        <p:blipFill>
          <a:blip r:embed="rId2"/>
          <a:stretch/>
        </p:blipFill>
        <p:spPr>
          <a:xfrm>
            <a:off x="3132000" y="1413000"/>
            <a:ext cx="3413160" cy="3413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-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図 130" descr="C:\Users\Chitose Izuno\AppData\Local\Microsoft\Windows\Temporary Internet Files\Content.IE5\25801DQE\MCj04325910000[1].png"/>
          <p:cNvPicPr/>
          <p:nvPr/>
        </p:nvPicPr>
        <p:blipFill>
          <a:blip r:embed="rId3"/>
          <a:stretch/>
        </p:blipFill>
        <p:spPr>
          <a:xfrm>
            <a:off x="5076720" y="1341360"/>
            <a:ext cx="2908440" cy="2908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-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図 130" descr="C:\Users\Chitose Izuno\AppData\Local\Microsoft\Windows\Temporary Internet Files\Content.IE5\25801DQE\MCj04325910000[1].png"/>
          <p:cNvPicPr/>
          <p:nvPr/>
        </p:nvPicPr>
        <p:blipFill>
          <a:blip r:embed="rId4"/>
          <a:stretch/>
        </p:blipFill>
        <p:spPr>
          <a:xfrm>
            <a:off x="1258920" y="213372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図 48" descr="https://minnanokyozai.jp/kyozai/material/IUM00255/ium00255.gif"/>
          <p:cNvPicPr/>
          <p:nvPr/>
        </p:nvPicPr>
        <p:blipFill>
          <a:blip r:embed="rId5"/>
          <a:stretch/>
        </p:blipFill>
        <p:spPr>
          <a:xfrm>
            <a:off x="6732720" y="5108400"/>
            <a:ext cx="24112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900000" y="0"/>
            <a:ext cx="7344000" cy="642600"/>
          </a:xfrm>
          <a:prstGeom prst="rect">
            <a:avLst/>
          </a:prstGeom>
          <a:solidFill>
            <a:srgbClr val="33cccc"/>
          </a:solidFill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66"/>
                </a:solidFill>
                <a:latin typeface="Comic Sans MS"/>
                <a:ea typeface="ＭＳ Ｐゴシック"/>
              </a:rPr>
              <a:t>Joining Nouns and </a:t>
            </a:r>
            <a:r>
              <a:rPr b="1" lang="ja-JP" sz="3600" spc="-1" strike="noStrike">
                <a:solidFill>
                  <a:srgbClr val="ffff66"/>
                </a:solidFill>
                <a:latin typeface="Comic Sans MS"/>
                <a:ea typeface="NtMotoyaKyotai"/>
              </a:rPr>
              <a:t>な</a:t>
            </a:r>
            <a:r>
              <a:rPr b="1" lang="en-NZ" sz="3600" spc="-1" strike="noStrike">
                <a:solidFill>
                  <a:srgbClr val="ffff66"/>
                </a:solidFill>
                <a:latin typeface="Comic Sans MS"/>
                <a:ea typeface="ＭＳ Ｐゴシック"/>
              </a:rPr>
              <a:t>Ad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907920"/>
            <a:ext cx="9144000" cy="1068840"/>
          </a:xfrm>
          <a:prstGeom prst="rect">
            <a:avLst/>
          </a:prstGeom>
          <a:solidFill>
            <a:srgbClr val="33cccc"/>
          </a:solidFill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o join two sentences, the first of which ends in a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  <a:ea typeface="Arial"/>
              </a:rPr>
              <a:t>nou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or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 </a:t>
            </a:r>
            <a:r>
              <a:rPr b="1" lang="ja-JP" sz="3200" spc="-1" strike="noStrike">
                <a:solidFill>
                  <a:srgbClr val="ffff66"/>
                </a:solidFill>
                <a:latin typeface="Comic Sans MS"/>
                <a:ea typeface="NtMotoyaKyotai"/>
              </a:rPr>
              <a:t>な</a:t>
            </a:r>
            <a:r>
              <a:rPr b="1" lang="ja-JP" sz="3200" spc="-1" strike="noStrike">
                <a:solidFill>
                  <a:srgbClr val="ffff66"/>
                </a:solidFill>
                <a:latin typeface="Comic Sans MS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  <a:ea typeface="ＭＳ Ｐゴシック"/>
              </a:rPr>
              <a:t>adjecti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3500280"/>
            <a:ext cx="698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きょうは、はれ</a:t>
            </a:r>
            <a:r>
              <a:rPr b="1" lang="ja-JP" sz="3200" spc="-1" strike="noStrike">
                <a:solidFill>
                  <a:srgbClr val="ffff99"/>
                </a:solidFill>
                <a:latin typeface="StarbabeHmkBold"/>
                <a:ea typeface="NtMotoyaKyotai"/>
              </a:rPr>
              <a:t>で、</a:t>
            </a:r>
            <a:r>
              <a:rPr b="1" lang="ja-JP" sz="32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あつい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92720" y="393372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It is sunny and hot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349360"/>
            <a:ext cx="9144000" cy="1068840"/>
          </a:xfrm>
          <a:prstGeom prst="rect">
            <a:avLst/>
          </a:prstGeom>
          <a:solidFill>
            <a:srgbClr val="33cccc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1: </a:t>
            </a:r>
            <a:r>
              <a:rPr b="1" lang="en-NZ" sz="3200" spc="-1" strike="noStrike">
                <a:solidFill>
                  <a:srgbClr val="ff3399"/>
                </a:solidFill>
                <a:latin typeface="Comic Sans MS"/>
                <a:ea typeface="Arial"/>
              </a:rPr>
              <a:t>AND (also) </a:t>
            </a:r>
            <a:r>
              <a:rPr b="1" lang="ja-JP" sz="32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　　　　　　　　　　　　　　　　　　　　　</a:t>
            </a:r>
            <a:r>
              <a:rPr b="1" lang="ja-JP" sz="32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ut 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で、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after nouns or </a:t>
            </a:r>
            <a:r>
              <a:rPr b="1" lang="ja-JP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な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adjec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8360" y="5877000"/>
            <a:ext cx="698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きょうは、はれ</a:t>
            </a:r>
            <a:r>
              <a:rPr b="1" lang="ja-JP" sz="3200" spc="-1" strike="noStrike">
                <a:solidFill>
                  <a:srgbClr val="ffff99"/>
                </a:solidFill>
                <a:latin typeface="StarbabeHmkBold"/>
                <a:ea typeface="NtMotoyaKyotai"/>
              </a:rPr>
              <a:t>です</a:t>
            </a:r>
            <a:r>
              <a:rPr b="1" lang="ja-JP" sz="3200" spc="-1" strike="noStrike">
                <a:solidFill>
                  <a:srgbClr val="ff0000"/>
                </a:solidFill>
                <a:latin typeface="StarbabeHmkBold"/>
                <a:ea typeface="NtMotoyaKyotai"/>
              </a:rPr>
              <a:t>が</a:t>
            </a:r>
            <a:r>
              <a:rPr b="1" lang="ja-JP" sz="3200" spc="-1" strike="noStrike">
                <a:solidFill>
                  <a:srgbClr val="ffff99"/>
                </a:solidFill>
                <a:latin typeface="StarbabeHmkBold"/>
                <a:ea typeface="NtMotoyaKyotai"/>
              </a:rPr>
              <a:t>、</a:t>
            </a:r>
            <a:r>
              <a:rPr b="1" lang="ja-JP" sz="32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さむい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27640" y="64911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It is sunny, but cold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4365720"/>
            <a:ext cx="9144000" cy="1495440"/>
          </a:xfrm>
          <a:prstGeom prst="rect">
            <a:avLst/>
          </a:prstGeom>
          <a:solidFill>
            <a:srgbClr val="33cccc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2: </a:t>
            </a:r>
            <a:r>
              <a:rPr b="1" lang="en-NZ" sz="3200" spc="-1" strike="noStrike">
                <a:solidFill>
                  <a:srgbClr val="ff3399"/>
                </a:solidFill>
                <a:latin typeface="Comic Sans MS"/>
                <a:ea typeface="Arial"/>
              </a:rPr>
              <a:t>BUT       </a:t>
            </a:r>
            <a:r>
              <a:rPr b="1" lang="ja-JP" sz="32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　　　　　　　　　　　　　　　　　　　　　　　　　　</a:t>
            </a:r>
            <a:r>
              <a:rPr b="1" lang="ja-JP" sz="32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ut 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です</a:t>
            </a:r>
            <a:r>
              <a:rPr b="1" lang="de-DE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/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でした</a:t>
            </a:r>
            <a:r>
              <a:rPr b="1" lang="en-NZ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/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でしょう</a:t>
            </a:r>
            <a:r>
              <a:rPr b="1" lang="ja-JP" sz="2800" spc="-1" strike="noStrike">
                <a:solidFill>
                  <a:srgbClr val="ff0000"/>
                </a:solidFill>
                <a:latin typeface="Comic Sans MS"/>
                <a:ea typeface="NtMotoyaKyotai"/>
              </a:rPr>
              <a:t>が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、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after nouns or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	</a:t>
            </a:r>
            <a:r>
              <a:rPr b="1" lang="ja-JP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な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adjec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400"/>
                            </p:stCondLst>
                            <p:childTnLst>
                              <p:par>
                                <p:cTn id="17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4200"/>
                            </p:stCondLst>
                            <p:childTnLst>
                              <p:par>
                                <p:cTn id="17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6600"/>
                            </p:stCondLst>
                            <p:childTnLst>
                              <p:par>
                                <p:cTn id="17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4200"/>
                            </p:stCondLst>
                            <p:childTnLst>
                              <p:par>
                                <p:cTn id="17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6800"/>
                            </p:stCondLst>
                            <p:childTnLst>
                              <p:par>
                                <p:cTn id="1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9280" y="2133720"/>
            <a:ext cx="180036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図 103" descr="C:\Users\Chitose Izuno\AppData\Local\Microsoft\Windows\Temporary Internet Files\Content.IE5\RH9HXTP3\MCj04462740000[1].wmf"/>
          <p:cNvPicPr/>
          <p:nvPr/>
        </p:nvPicPr>
        <p:blipFill>
          <a:blip r:embed="rId2"/>
          <a:stretch/>
        </p:blipFill>
        <p:spPr>
          <a:xfrm>
            <a:off x="2340000" y="1989000"/>
            <a:ext cx="1674720" cy="1473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268360" y="342900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unny/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95640" y="4076640"/>
            <a:ext cx="172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252360" y="4076640"/>
            <a:ext cx="2195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ょ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19280" y="4076640"/>
            <a:ext cx="647640" cy="792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40720" y="4005360"/>
            <a:ext cx="1403280" cy="865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818560" y="4076640"/>
            <a:ext cx="5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24360" y="4005360"/>
            <a:ext cx="21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さむ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92720" y="4005360"/>
            <a:ext cx="720720" cy="79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48360" y="4941720"/>
            <a:ext cx="1008000" cy="936720"/>
          </a:xfrm>
          <a:prstGeom prst="upArrowCallout">
            <a:avLst>
              <a:gd name="adj1" fmla="val 26905"/>
              <a:gd name="adj2" fmla="val 26902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602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is sunny </a:t>
            </a:r>
            <a:r>
              <a:rPr b="0" lang="en-NZ" sz="3200" spc="-1" strike="noStrike">
                <a:solidFill>
                  <a:srgbClr val="ff3399"/>
                </a:solidFill>
                <a:latin typeface="Comic Sans MS"/>
              </a:rPr>
              <a:t>but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col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1873440" cy="13572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659640" y="29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40360" y="4005360"/>
            <a:ext cx="1331640" cy="792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</a:t>
            </a:r>
            <a:r>
              <a:rPr b="1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 “</a:t>
            </a:r>
            <a:r>
              <a:rPr b="0" lang="en-NZ" sz="44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BUT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24000" y="4076640"/>
            <a:ext cx="21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さむ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84720" y="4005360"/>
            <a:ext cx="172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92360" y="602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is cold </a:t>
            </a:r>
            <a:r>
              <a:rPr b="0" lang="en-NZ" sz="3200" spc="-1" strike="noStrike">
                <a:solidFill>
                  <a:srgbClr val="ff3399"/>
                </a:solidFill>
                <a:latin typeface="Comic Sans MS"/>
              </a:rPr>
              <a:t>but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sunny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3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3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3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3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8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0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2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77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7" dur="77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9" dur="77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1" dur="77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3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2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5" dur="3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3300"/>
                            </p:stCondLst>
                            <p:childTnLst>
                              <p:par>
                                <p:cTn id="18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4300"/>
                            </p:stCondLst>
                            <p:childTnLst>
                              <p:par>
                                <p:cTn id="18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0.3809 0.00811 E">
                                      <p:cBhvr>
                                        <p:cTn id="1884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8148E-006 L 0.36615 0.00417 E">
                                      <p:cBhvr>
                                        <p:cTn id="1886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625 L -0.3467 0.00185 E">
                                      <p:cBhvr>
                                        <p:cTn id="1888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6821E-007 L -0.41718 -0.00624 E">
                                      <p:cBhvr>
                                        <p:cTn id="1890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94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3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04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3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9280" y="2133720"/>
            <a:ext cx="180036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47640" y="4076640"/>
            <a:ext cx="13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-324000" y="4076640"/>
            <a:ext cx="18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し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58920" y="4076640"/>
            <a:ext cx="576360" cy="64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08720" y="4076640"/>
            <a:ext cx="1835280" cy="6476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ょ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854920" y="4149720"/>
            <a:ext cx="5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932360" y="407664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たたか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84720" y="4869000"/>
            <a:ext cx="1008000" cy="936360"/>
          </a:xfrm>
          <a:prstGeom prst="upArrowCallout">
            <a:avLst>
              <a:gd name="adj1" fmla="val 26915"/>
              <a:gd name="adj2" fmla="val 26913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16000" y="6021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ill be rainy </a:t>
            </a:r>
            <a:r>
              <a:rPr b="0" lang="en-NZ" sz="3200" spc="-1" strike="noStrike">
                <a:solidFill>
                  <a:srgbClr val="ff3399"/>
                </a:solidFill>
                <a:latin typeface="Comic Sans MS"/>
              </a:rPr>
              <a:t>but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warm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627280" y="4076640"/>
            <a:ext cx="2594160" cy="647640"/>
            <a:chOff x="2627280" y="4076640"/>
            <a:chExt cx="2594160" cy="647640"/>
          </a:xfrm>
        </p:grpSpPr>
        <p:sp>
          <p:nvSpPr>
            <p:cNvPr id="479" name=""/>
            <p:cNvSpPr/>
            <p:nvPr/>
          </p:nvSpPr>
          <p:spPr>
            <a:xfrm>
              <a:off x="4500720" y="4076640"/>
              <a:ext cx="720720" cy="647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27280" y="4076640"/>
              <a:ext cx="1944720" cy="64764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でしょ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1" name="図 39" descr="https://minnanokyozai.jp/kyozai/material/IUM00215/ium00215.gif"/>
          <p:cNvPicPr/>
          <p:nvPr/>
        </p:nvPicPr>
        <p:blipFill>
          <a:blip r:embed="rId2"/>
          <a:stretch/>
        </p:blipFill>
        <p:spPr>
          <a:xfrm>
            <a:off x="2484360" y="2060640"/>
            <a:ext cx="2017800" cy="14619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484360" y="29955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in/ra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65308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18939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</a:t>
            </a:r>
            <a:r>
              <a:rPr b="1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 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　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“</a:t>
            </a:r>
            <a:r>
              <a:rPr b="0" lang="en-NZ" sz="44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BUT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56360" y="4076640"/>
            <a:ext cx="13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42920" y="6021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ill be warm </a:t>
            </a:r>
            <a:r>
              <a:rPr b="0" lang="en-NZ" sz="3200" spc="-1" strike="noStrike">
                <a:solidFill>
                  <a:srgbClr val="ff3399"/>
                </a:solidFill>
                <a:latin typeface="Comic Sans MS"/>
              </a:rPr>
              <a:t>but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rainy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76360" y="407664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たたか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3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3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3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3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3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3900"/>
                            </p:stCondLst>
                            <p:childTnLst>
                              <p:par>
                                <p:cTn id="19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4900"/>
                            </p:stCondLst>
                            <p:childTnLst>
                              <p:par>
                                <p:cTn id="19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9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-0.3151 -0.00023 E">
                                      <p:cBhvr>
                                        <p:cTn id="1995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7 L -0.31614 0.00417 E">
                                      <p:cBhvr>
                                        <p:cTn id="1997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31493 2.59259E-006 E">
                                      <p:cBhvr>
                                        <p:cTn id="1999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30695 4.81481E-006 E">
                                      <p:cBhvr>
                                        <p:cTn id="2001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08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11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3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2604 0.00532 E">
                                      <p:cBhvr>
                                        <p:cTn id="2019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L 0.13402 0.00509 E">
                                      <p:cBhvr>
                                        <p:cTn id="2021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3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9280" y="2133720"/>
            <a:ext cx="180036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-252360" y="4076640"/>
            <a:ext cx="165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の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87280" y="4076640"/>
            <a:ext cx="576360" cy="64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67280" y="4076640"/>
            <a:ext cx="64764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51280" y="4941720"/>
            <a:ext cx="1008000" cy="936720"/>
          </a:xfrm>
          <a:prstGeom prst="upArrowCallout">
            <a:avLst>
              <a:gd name="adj1" fmla="val 26905"/>
              <a:gd name="adj2" fmla="val 26902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59500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as rainy </a:t>
            </a:r>
            <a:r>
              <a:rPr b="0" lang="en-NZ" sz="3200" spc="-1" strike="noStrike">
                <a:solidFill>
                  <a:srgbClr val="ff3399"/>
                </a:solidFill>
                <a:latin typeface="Comic Sans MS"/>
              </a:rPr>
              <a:t>but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warm yester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476360" y="4076640"/>
            <a:ext cx="2735280" cy="720720"/>
            <a:chOff x="1476360" y="4076640"/>
            <a:chExt cx="2735280" cy="720720"/>
          </a:xfrm>
        </p:grpSpPr>
        <p:sp>
          <p:nvSpPr>
            <p:cNvPr id="498" name=""/>
            <p:cNvSpPr/>
            <p:nvPr/>
          </p:nvSpPr>
          <p:spPr>
            <a:xfrm>
              <a:off x="1476360" y="4076640"/>
              <a:ext cx="1366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8f8f8"/>
                  </a:solidFill>
                  <a:latin typeface="NtMotoyaKyotai"/>
                  <a:ea typeface="NtMotoyaKyotai"/>
                </a:rPr>
                <a:t>あ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27280" y="4076640"/>
              <a:ext cx="1584360" cy="64764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でし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0" name="図 39" descr="https://minnanokyozai.jp/kyozai/material/IUM00215/ium00215.gif"/>
          <p:cNvPicPr/>
          <p:nvPr/>
        </p:nvPicPr>
        <p:blipFill>
          <a:blip r:embed="rId2"/>
          <a:stretch/>
        </p:blipFill>
        <p:spPr>
          <a:xfrm>
            <a:off x="2484360" y="2060640"/>
            <a:ext cx="2017800" cy="14619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2484360" y="29955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in/ra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65308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1893960" cy="1670040"/>
          </a:xfrm>
          <a:prstGeom prst="rect">
            <a:avLst/>
          </a:prstGeom>
          <a:ln w="0">
            <a:noFill/>
          </a:ln>
        </p:spPr>
      </p:pic>
      <p:grpSp>
        <p:nvGrpSpPr>
          <p:cNvPr id="504" name=""/>
          <p:cNvGrpSpPr/>
          <p:nvPr/>
        </p:nvGrpSpPr>
        <p:grpSpPr>
          <a:xfrm>
            <a:off x="4427640" y="4005360"/>
            <a:ext cx="4716000" cy="720720"/>
            <a:chOff x="4427640" y="4005360"/>
            <a:chExt cx="4716000" cy="720720"/>
          </a:xfrm>
        </p:grpSpPr>
        <p:sp>
          <p:nvSpPr>
            <p:cNvPr id="505" name=""/>
            <p:cNvSpPr/>
            <p:nvPr/>
          </p:nvSpPr>
          <p:spPr>
            <a:xfrm>
              <a:off x="8010720" y="4076640"/>
              <a:ext cx="1132920" cy="64764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で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27640" y="4076640"/>
              <a:ext cx="2192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8f8f8"/>
                  </a:solidFill>
                  <a:latin typeface="NtMotoyaKyotai"/>
                  <a:ea typeface="NtMotoyaKyotai"/>
                </a:rPr>
                <a:t>あたた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57800" y="4005360"/>
              <a:ext cx="21211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000" spc="-1" strike="noStrike">
                  <a:solidFill>
                    <a:srgbClr val="ff0000"/>
                  </a:solidFill>
                  <a:latin typeface="NtMotoyaKyotai"/>
                  <a:ea typeface="NtMotoyaKyotai"/>
                </a:rPr>
                <a:t>かっ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40360" y="4076640"/>
            <a:ext cx="72072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408720" y="4076640"/>
            <a:ext cx="2735280" cy="720720"/>
            <a:chOff x="6408720" y="4076640"/>
            <a:chExt cx="2735280" cy="720720"/>
          </a:xfrm>
        </p:grpSpPr>
        <p:sp>
          <p:nvSpPr>
            <p:cNvPr id="510" name=""/>
            <p:cNvSpPr/>
            <p:nvPr/>
          </p:nvSpPr>
          <p:spPr>
            <a:xfrm>
              <a:off x="6408720" y="4076640"/>
              <a:ext cx="1366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8f8f8"/>
                  </a:solidFill>
                  <a:latin typeface="NtMotoyaKyotai"/>
                  <a:ea typeface="NtMotoyaKyotai"/>
                </a:rPr>
                <a:t>あ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59640" y="4076640"/>
              <a:ext cx="1584360" cy="64764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でし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8852040" y="4149720"/>
            <a:ext cx="583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71640" y="59500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as warm </a:t>
            </a:r>
            <a:r>
              <a:rPr b="0" lang="en-NZ" sz="3200" spc="-1" strike="noStrike">
                <a:solidFill>
                  <a:srgbClr val="ff3399"/>
                </a:solidFill>
                <a:latin typeface="Comic Sans MS"/>
              </a:rPr>
              <a:t>but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rainy yester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</a:t>
            </a:r>
            <a:r>
              <a:rPr b="1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 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　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“</a:t>
            </a:r>
            <a:r>
              <a:rPr b="0" lang="en-NZ" sz="44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BUT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3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36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1" dur="3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6600"/>
                            </p:stCondLst>
                            <p:childTnLst>
                              <p:par>
                                <p:cTn id="20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8600"/>
                            </p:stCondLst>
                            <p:childTnLst>
                              <p:par>
                                <p:cTn id="20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77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0" dur="770" fill="hold"/>
                                        <p:tgtEl>
                                          <p:spTgt spid="4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2" dur="77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4" dur="77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77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0" dur="77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2" dur="77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4" dur="77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12600"/>
                            </p:stCondLst>
                            <p:childTnLst>
                              <p:par>
                                <p:cTn id="2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4600"/>
                            </p:stCondLst>
                            <p:childTnLst>
                              <p:par>
                                <p:cTn id="20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16600"/>
                            </p:stCondLst>
                            <p:childTnLst>
                              <p:par>
                                <p:cTn id="20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176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-0.33871 -0.00023 E">
                                      <p:cBhvr>
                                        <p:cTn id="2106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7 L -0.33194 -0.00625 E">
                                      <p:cBhvr>
                                        <p:cTn id="2108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3151 0.01042 E">
                                      <p:cBhvr>
                                        <p:cTn id="2110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29132 4.81481E-006 E">
                                      <p:cBhvr>
                                        <p:cTn id="2112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6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-0.32864 -4.07407E-006 E">
                                      <p:cBhvr>
                                        <p:cTn id="2129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77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770" fill="hold"/>
                                        <p:tgtEl>
                                          <p:spTgt spid="5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6" dur="77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8" dur="77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77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3" dur="77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5" dur="77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7" dur="77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L 0.22066 -0.00533 E">
                                      <p:cBhvr>
                                        <p:cTn id="2156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280" y="2133720"/>
            <a:ext cx="180036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図 103" descr="C:\Users\Chitose Izuno\AppData\Local\Microsoft\Windows\Temporary Internet Files\Content.IE5\RH9HXTP3\MCj04462740000[1].wmf"/>
          <p:cNvPicPr/>
          <p:nvPr/>
        </p:nvPicPr>
        <p:blipFill>
          <a:blip r:embed="rId2"/>
          <a:stretch/>
        </p:blipFill>
        <p:spPr>
          <a:xfrm>
            <a:off x="5292720" y="1773360"/>
            <a:ext cx="1674720" cy="1473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005440" y="3213000"/>
            <a:ext cx="19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unny/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56360" y="4005360"/>
            <a:ext cx="1728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81080" y="4076640"/>
            <a:ext cx="20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ょ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19280" y="4076640"/>
            <a:ext cx="792000" cy="792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40720" y="4005360"/>
            <a:ext cx="1403280" cy="865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818560" y="4076640"/>
            <a:ext cx="5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987640" y="328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2627280" y="1700280"/>
            <a:ext cx="1893960" cy="16700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411280" y="4076640"/>
            <a:ext cx="273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たた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03640" y="5084640"/>
            <a:ext cx="1008360" cy="936720"/>
          </a:xfrm>
          <a:prstGeom prst="upArrowCallout">
            <a:avLst>
              <a:gd name="adj1" fmla="val 26914"/>
              <a:gd name="adj2" fmla="val 26912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63640" y="62784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is warm </a:t>
            </a:r>
            <a:r>
              <a:rPr b="0" lang="en-NZ" sz="3200" spc="-1" strike="noStrike">
                <a:solidFill>
                  <a:srgbClr val="ffff99"/>
                </a:solidFill>
                <a:latin typeface="Comic Sans MS"/>
              </a:rPr>
              <a:t>an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sunny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</a:t>
            </a:r>
            <a:r>
              <a:rPr b="1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 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　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“</a:t>
            </a:r>
            <a:r>
              <a:rPr b="0" lang="en-NZ" sz="4400" spc="-1" strike="noStrike">
                <a:solidFill>
                  <a:srgbClr val="ffff99"/>
                </a:solidFill>
                <a:latin typeface="Comic Sans MS"/>
                <a:ea typeface="ＭＳ Ｐゴシック"/>
              </a:rPr>
              <a:t>AND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086000">
            <a:off x="4500720" y="4005360"/>
            <a:ext cx="1584000" cy="112392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32360" y="4076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88000" y="4005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くて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8" dur="indefinite" restart="never" nodeType="tmRoot">
          <p:childTnLst>
            <p:seq>
              <p:cTn id="2169" dur="indefinite" nodeType="mainSeq">
                <p:childTnLst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3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3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5" dur="3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3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6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220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2" dur="3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7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3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3300"/>
                            </p:stCondLst>
                            <p:childTnLst>
                              <p:par>
                                <p:cTn id="2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4300"/>
                            </p:stCondLst>
                            <p:childTnLst>
                              <p:par>
                                <p:cTn id="2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516720" y="3500280"/>
            <a:ext cx="2627280" cy="7938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ょ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2089440" cy="15145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363528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216000" y="702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1844640"/>
            <a:ext cx="2016360" cy="1150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-252360" y="342900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818560" y="3429000"/>
            <a:ext cx="649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35280" y="3500280"/>
            <a:ext cx="792000" cy="79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図 39" descr="https://minnanokyozai.jp/kyozai/material/IUM00215/ium00215.gif"/>
          <p:cNvPicPr/>
          <p:nvPr/>
        </p:nvPicPr>
        <p:blipFill>
          <a:blip r:embed="rId3"/>
          <a:stretch/>
        </p:blipFill>
        <p:spPr>
          <a:xfrm>
            <a:off x="5003640" y="1628640"/>
            <a:ext cx="2160720" cy="15652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003640" y="2637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in/ra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6720" y="3500280"/>
            <a:ext cx="1513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80000" y="4508640"/>
            <a:ext cx="1008000" cy="936360"/>
          </a:xfrm>
          <a:prstGeom prst="upArrowCallout">
            <a:avLst>
              <a:gd name="adj1" fmla="val 26915"/>
              <a:gd name="adj2" fmla="val 26913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32000" y="57340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ill be cold</a:t>
            </a:r>
            <a:r>
              <a:rPr b="0" lang="ja-JP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ffff99"/>
                </a:solidFill>
                <a:latin typeface="Comic Sans MS"/>
              </a:rPr>
              <a:t>an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rainy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</a:t>
            </a:r>
            <a:r>
              <a:rPr b="1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い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 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　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“</a:t>
            </a:r>
            <a:r>
              <a:rPr b="0" lang="en-NZ" sz="4400" spc="-1" strike="noStrike">
                <a:solidFill>
                  <a:srgbClr val="ffff99"/>
                </a:solidFill>
                <a:latin typeface="Comic Sans MS"/>
                <a:ea typeface="ＭＳ Ｐゴシック"/>
              </a:rPr>
              <a:t>AND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484360" y="3500280"/>
            <a:ext cx="14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さ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086000">
            <a:off x="3276720" y="3357720"/>
            <a:ext cx="1584360" cy="112392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35280" y="3500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64000" y="3500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くて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3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3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900"/>
                            </p:stCondLst>
                            <p:childTnLst>
                              <p:par>
                                <p:cTn id="22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3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3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3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3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4" nodeType="withEffect" fill="hold" presetClass="exit" presetID="2" presetSubtype="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5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39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5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5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 rot="1086000">
            <a:off x="3348000" y="4076640"/>
            <a:ext cx="1584360" cy="112392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79280" y="2133720"/>
            <a:ext cx="1944720" cy="1368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図 103" descr="C:\Users\Chitose Izuno\AppData\Local\Microsoft\Windows\Temporary Internet Files\Content.IE5\RH9HXTP3\MCj04462740000[1].wmf"/>
          <p:cNvPicPr/>
          <p:nvPr/>
        </p:nvPicPr>
        <p:blipFill>
          <a:blip r:embed="rId2"/>
          <a:stretch/>
        </p:blipFill>
        <p:spPr>
          <a:xfrm>
            <a:off x="5580000" y="1773360"/>
            <a:ext cx="1674720" cy="14731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5292720" y="321300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unny/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48360" y="4076640"/>
            <a:ext cx="172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は 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4149720"/>
            <a:ext cx="201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きの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00360" y="4149720"/>
            <a:ext cx="720720" cy="792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8360" y="4076640"/>
            <a:ext cx="2195640" cy="865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で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54920" y="4221000"/>
            <a:ext cx="5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35280" y="5013360"/>
            <a:ext cx="1008000" cy="936720"/>
          </a:xfrm>
          <a:prstGeom prst="upArrowCallout">
            <a:avLst>
              <a:gd name="adj1" fmla="val 26905"/>
              <a:gd name="adj2" fmla="val 26902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32000" y="609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t was hot </a:t>
            </a:r>
            <a:r>
              <a:rPr b="0" lang="en-NZ" sz="3200" spc="-1" strike="noStrike">
                <a:solidFill>
                  <a:srgbClr val="ffff99"/>
                </a:solidFill>
                <a:latin typeface="Comic Sans MS"/>
              </a:rPr>
              <a:t>an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sunny yester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484360" y="4076640"/>
            <a:ext cx="1511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37080" y="40766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35280" y="4076640"/>
            <a:ext cx="18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くて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2340000" cy="18381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3780000" y="3141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79280" y="189000"/>
            <a:ext cx="8964720" cy="79200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Joining Nouns and </a:t>
            </a:r>
            <a:r>
              <a:rPr b="0" lang="ja-JP" sz="4400" spc="-1" strike="noStrike">
                <a:solidFill>
                  <a:srgbClr val="f8f8f8"/>
                </a:solidFill>
                <a:latin typeface="Comic Sans MS"/>
                <a:ea typeface="NtMotoyaKyotai"/>
              </a:rPr>
              <a:t>な</a:t>
            </a:r>
            <a:r>
              <a:rPr b="0" lang="en-NZ" sz="4400" spc="-1" strike="noStrike">
                <a:solidFill>
                  <a:srgbClr val="f8f8f8"/>
                </a:solidFill>
                <a:latin typeface="Comic Sans MS"/>
                <a:ea typeface="ＭＳ Ｐゴシック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7" dur="indefinite" restart="never" nodeType="tmRoot">
          <p:childTnLst>
            <p:seq>
              <p:cTn id="2348" dur="indefinite" nodeType="mainSeq">
                <p:childTnLst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1" dur="3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4" dur="3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3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0" dur="3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3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91" dur="3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3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5" nodeType="after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96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0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5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2" dur="3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3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3600"/>
                            </p:stCondLst>
                            <p:childTnLst>
                              <p:par>
                                <p:cTn id="24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5" dur="3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3300"/>
                            </p:stCondLst>
                            <p:childTnLst>
                              <p:par>
                                <p:cTn id="2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4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0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solidFill>
            <a:srgbClr val="33cccc"/>
          </a:solidFill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o join two sentences, the first of which ends in a </a:t>
            </a:r>
            <a:r>
              <a:rPr b="1" lang="ja-JP" sz="3600" spc="-1" strike="noStrike">
                <a:solidFill>
                  <a:srgbClr val="ffff66"/>
                </a:solidFill>
                <a:latin typeface="Comic Sans MS"/>
                <a:ea typeface="ＭＳ Ｐゴシック"/>
              </a:rPr>
              <a:t>い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  <a:ea typeface="ＭＳ Ｐゴシック"/>
              </a:rPr>
              <a:t>adjec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92720" y="436572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It is hot and sunny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64500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きょうは、あつ</a:t>
            </a:r>
            <a:r>
              <a:rPr b="1" lang="ja-JP" sz="4400" spc="-1" strike="noStrike">
                <a:solidFill>
                  <a:srgbClr val="ff3399"/>
                </a:solidFill>
                <a:latin typeface="StarbabeHmkBold"/>
                <a:ea typeface="NtMotoyaKyotai"/>
              </a:rPr>
              <a:t>くて</a:t>
            </a:r>
            <a:r>
              <a:rPr b="1" lang="ja-JP" sz="44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、はれ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00000" y="0"/>
            <a:ext cx="7344000" cy="642600"/>
          </a:xfrm>
          <a:prstGeom prst="rect">
            <a:avLst/>
          </a:prstGeom>
          <a:solidFill>
            <a:srgbClr val="33cccc"/>
          </a:solidFill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66"/>
                </a:solidFill>
                <a:latin typeface="Comic Sans MS"/>
                <a:ea typeface="ＭＳ Ｐゴシック"/>
              </a:rPr>
              <a:t>Joining </a:t>
            </a:r>
            <a:r>
              <a:rPr b="1" lang="ja-JP" sz="3600" spc="-1" strike="noStrike">
                <a:solidFill>
                  <a:srgbClr val="ffff66"/>
                </a:solidFill>
                <a:latin typeface="Comic Sans MS"/>
                <a:ea typeface="NtMotoyaKyotai"/>
              </a:rPr>
              <a:t>い</a:t>
            </a:r>
            <a:r>
              <a:rPr b="1" lang="ja-JP" sz="3600" spc="-1" strike="noStrike">
                <a:solidFill>
                  <a:srgbClr val="ffff66"/>
                </a:solidFill>
                <a:latin typeface="Comic Sans MS"/>
                <a:ea typeface="NtMotoyaKyotai"/>
              </a:rPr>
              <a:t> </a:t>
            </a:r>
            <a:r>
              <a:rPr b="1" lang="en-NZ" sz="3600" spc="-1" strike="noStrike">
                <a:solidFill>
                  <a:srgbClr val="ffff66"/>
                </a:solidFill>
                <a:latin typeface="Comic Sans MS"/>
                <a:ea typeface="ＭＳ Ｐゴシック"/>
              </a:rPr>
              <a:t>Ad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2349360"/>
            <a:ext cx="9144000" cy="1068840"/>
          </a:xfrm>
          <a:prstGeom prst="rect">
            <a:avLst/>
          </a:prstGeom>
          <a:solidFill>
            <a:srgbClr val="33cccc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1: </a:t>
            </a:r>
            <a:r>
              <a:rPr b="1" lang="en-NZ" sz="3200" spc="-1" strike="noStrike">
                <a:solidFill>
                  <a:srgbClr val="ff3399"/>
                </a:solidFill>
                <a:latin typeface="Comic Sans MS"/>
                <a:ea typeface="Arial"/>
              </a:rPr>
              <a:t>AND (also) </a:t>
            </a:r>
            <a:r>
              <a:rPr b="1" lang="ja-JP" sz="32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　　　　　　　　　　　　　　　　　　　　　</a:t>
            </a:r>
            <a:r>
              <a:rPr b="1" lang="ja-JP" sz="32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ke</a:t>
            </a:r>
            <a:r>
              <a:rPr b="1" lang="ja-JP" sz="2800" spc="-1" strike="noStrike">
                <a:solidFill>
                  <a:srgbClr val="ffff66"/>
                </a:solidFill>
                <a:latin typeface="Times New Roman"/>
                <a:ea typeface="NtMotoyaKyotai"/>
              </a:rPr>
              <a:t>い</a:t>
            </a:r>
            <a:r>
              <a:rPr b="1" lang="ja-JP" sz="24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off the adjective and p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t </a:t>
            </a:r>
            <a:r>
              <a:rPr b="1" lang="ja-JP" sz="2800" spc="-1" strike="noStrike">
                <a:solidFill>
                  <a:srgbClr val="ff0066"/>
                </a:solidFill>
                <a:latin typeface="Comic Sans MS"/>
                <a:ea typeface="NtMotoyaKyotai"/>
              </a:rPr>
              <a:t>く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4724280"/>
            <a:ext cx="9144000" cy="1495440"/>
          </a:xfrm>
          <a:prstGeom prst="rect">
            <a:avLst/>
          </a:prstGeom>
          <a:solidFill>
            <a:srgbClr val="33cccc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2: </a:t>
            </a:r>
            <a:r>
              <a:rPr b="1" lang="en-NZ" sz="3200" spc="-1" strike="noStrike">
                <a:solidFill>
                  <a:srgbClr val="ff3399"/>
                </a:solidFill>
                <a:latin typeface="Comic Sans MS"/>
                <a:ea typeface="Arial"/>
              </a:rPr>
              <a:t>BUT       </a:t>
            </a:r>
            <a:r>
              <a:rPr b="1" lang="ja-JP" sz="3200" spc="-1" strike="noStrike">
                <a:solidFill>
                  <a:srgbClr val="ff3399"/>
                </a:solidFill>
                <a:latin typeface="Comic Sans MS"/>
                <a:ea typeface="ＭＳ Ｐゴシック"/>
              </a:rPr>
              <a:t>　　　　　　　　　　　　　　　　　　　　　　　　　　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ut 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です</a:t>
            </a:r>
            <a:r>
              <a:rPr b="1" lang="de-DE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/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でした</a:t>
            </a:r>
            <a:r>
              <a:rPr b="1" lang="de-DE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/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でしょう</a:t>
            </a:r>
            <a:r>
              <a:rPr b="1" lang="ja-JP" sz="2800" spc="-1" strike="noStrike">
                <a:solidFill>
                  <a:srgbClr val="ff0000"/>
                </a:solidFill>
                <a:latin typeface="Comic Sans MS"/>
                <a:ea typeface="NtMotoyaKyotai"/>
              </a:rPr>
              <a:t>が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、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after </a:t>
            </a:r>
            <a:r>
              <a:rPr b="1" lang="ja-JP" sz="2800" spc="-1" strike="noStrike">
                <a:solidFill>
                  <a:srgbClr val="ffff99"/>
                </a:solidFill>
                <a:latin typeface="Comic Sans MS"/>
                <a:ea typeface="NtMotoyaKyotai"/>
              </a:rPr>
              <a:t>い</a:t>
            </a:r>
            <a:r>
              <a:rPr b="1" lang="ja-JP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adjec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5994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きょうは、あたたかい</a:t>
            </a:r>
            <a:r>
              <a:rPr b="1" lang="ja-JP" sz="3600" spc="-1" strike="noStrike">
                <a:solidFill>
                  <a:srgbClr val="ff3399"/>
                </a:solidFill>
                <a:latin typeface="StarbabeHmkBold"/>
                <a:ea typeface="NtMotoyaKyotai"/>
              </a:rPr>
              <a:t>ですが</a:t>
            </a:r>
            <a:r>
              <a:rPr b="1" lang="ja-JP" sz="36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、あめで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6000" y="649116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It is warm, but rainy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7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4400"/>
                            </p:stCondLst>
                            <p:childTnLst>
                              <p:par>
                                <p:cTn id="24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1200"/>
                            </p:stCondLst>
                            <p:childTnLst>
                              <p:par>
                                <p:cTn id="2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3700"/>
                            </p:stCondLst>
                            <p:childTnLst>
                              <p:par>
                                <p:cTn id="24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6700"/>
                            </p:stCondLst>
                            <p:childTnLst>
                              <p:par>
                                <p:cTn id="24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9500"/>
                            </p:stCondLst>
                            <p:childTnLst>
                              <p:par>
                                <p:cTn id="2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501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now/sn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5229360"/>
            <a:ext cx="3816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ゆ き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図 60" descr="https://minnanokyozai.jp/kyozai/material/IUM00037/ium00037.gif"/>
          <p:cNvPicPr/>
          <p:nvPr/>
        </p:nvPicPr>
        <p:blipFill>
          <a:blip r:embed="rId2"/>
          <a:stretch/>
        </p:blipFill>
        <p:spPr>
          <a:xfrm>
            <a:off x="7056360" y="4987800"/>
            <a:ext cx="2087640" cy="1870200"/>
          </a:xfrm>
          <a:prstGeom prst="rect">
            <a:avLst/>
          </a:prstGeom>
          <a:ln w="0">
            <a:noFill/>
          </a:ln>
        </p:spPr>
      </p:pic>
      <p:pic>
        <p:nvPicPr>
          <p:cNvPr id="64" name="図 180" descr="C:\Users\Chitose Izuno\AppData\Local\Microsoft\Windows\Temporary Internet Files\Content.IE5\25801DQE\MCj04183700000[1].wmf"/>
          <p:cNvPicPr/>
          <p:nvPr/>
        </p:nvPicPr>
        <p:blipFill>
          <a:blip r:embed="rId3"/>
          <a:stretch/>
        </p:blipFill>
        <p:spPr>
          <a:xfrm>
            <a:off x="2854440" y="1197000"/>
            <a:ext cx="3600360" cy="3889440"/>
          </a:xfrm>
          <a:prstGeom prst="rect">
            <a:avLst/>
          </a:prstGeom>
          <a:ln w="0">
            <a:noFill/>
          </a:ln>
        </p:spPr>
      </p:pic>
      <p:pic>
        <p:nvPicPr>
          <p:cNvPr id="65" name="図 184" descr="C:\Users\Chitose Izuno\AppData\Local\Microsoft\Windows\Temporary Internet Files\Content.IE5\FBHZNSUQ\MCj04213800000[1].wmf"/>
          <p:cNvPicPr/>
          <p:nvPr/>
        </p:nvPicPr>
        <p:blipFill>
          <a:blip r:embed="rId4"/>
          <a:stretch/>
        </p:blipFill>
        <p:spPr>
          <a:xfrm>
            <a:off x="395280" y="5114880"/>
            <a:ext cx="1835280" cy="1743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27640" y="4437000"/>
            <a:ext cx="305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99"/>
                </a:solidFill>
                <a:latin typeface="NtMotoyaKyotai"/>
                <a:ea typeface="NtMotoyaKyotai"/>
              </a:rPr>
              <a:t>ゆきだる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301320" cy="697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437000"/>
            <a:ext cx="3059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99"/>
                </a:solidFill>
                <a:latin typeface="NtMotoyaKyotai"/>
                <a:ea typeface="NtMotoyaKyotai"/>
              </a:rPr>
              <a:t>ゆきがっせ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4941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in/ra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5373720"/>
            <a:ext cx="3816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 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図 39" descr="https://minnanokyozai.jp/kyozai/material/IUM00215/ium00215.gif"/>
          <p:cNvPicPr/>
          <p:nvPr/>
        </p:nvPicPr>
        <p:blipFill>
          <a:blip r:embed="rId2"/>
          <a:stretch/>
        </p:blipFill>
        <p:spPr>
          <a:xfrm>
            <a:off x="1908000" y="1268280"/>
            <a:ext cx="5113440" cy="3706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08720" y="64008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eather.m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01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under/light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5373720"/>
            <a:ext cx="5112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かみな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図 160" descr="C:\Users\Chitose Izuno\AppData\Local\Microsoft\Windows\Temporary Internet Files\Content.IE5\V27P2MQK\MCj04184340000[1].wmf"/>
          <p:cNvPicPr/>
          <p:nvPr/>
        </p:nvPicPr>
        <p:blipFill>
          <a:blip r:embed="rId2"/>
          <a:stretch/>
        </p:blipFill>
        <p:spPr>
          <a:xfrm>
            <a:off x="2987640" y="1341360"/>
            <a:ext cx="3402000" cy="3888000"/>
          </a:xfrm>
          <a:prstGeom prst="rect">
            <a:avLst/>
          </a:prstGeom>
          <a:ln w="0">
            <a:noFill/>
          </a:ln>
        </p:spPr>
      </p:pic>
      <p:pic>
        <p:nvPicPr>
          <p:cNvPr id="83" name="図 45" descr="https://minnanokyozai.jp/kyozai/material/IUM00262/ium00262.gif"/>
          <p:cNvPicPr/>
          <p:nvPr/>
        </p:nvPicPr>
        <p:blipFill>
          <a:blip r:embed="rId3"/>
          <a:stretch/>
        </p:blipFill>
        <p:spPr>
          <a:xfrm>
            <a:off x="6335640" y="3500280"/>
            <a:ext cx="2808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3068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t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1700280"/>
            <a:ext cx="51116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あら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図 124" descr="C:\Users\Chitose Izuno\AppData\Local\Microsoft\Windows\Temporary Internet Files\Content.IE5\FBHZNSUQ\MCj04184380000[1].wmf"/>
          <p:cNvPicPr/>
          <p:nvPr/>
        </p:nvPicPr>
        <p:blipFill>
          <a:blip r:embed="rId2"/>
          <a:stretch/>
        </p:blipFill>
        <p:spPr>
          <a:xfrm>
            <a:off x="755640" y="1268280"/>
            <a:ext cx="2303640" cy="227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7164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yph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4581360"/>
            <a:ext cx="511164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たいふ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80" y="517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80" y="456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80" y="601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8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39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図 51" descr="https://minnanokyozai.jp/kyozai/material/IUM00244/ium00244.gif"/>
          <p:cNvPicPr/>
          <p:nvPr/>
        </p:nvPicPr>
        <p:blipFill>
          <a:blip r:embed="rId3"/>
          <a:stretch/>
        </p:blipFill>
        <p:spPr>
          <a:xfrm>
            <a:off x="179280" y="3789360"/>
            <a:ext cx="3313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94172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inb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5373720"/>
            <a:ext cx="5112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に　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図 123" descr="C:\Users\Chitose Izuno\AppData\Local\Microsoft\Windows\Temporary Internet Files\Content.IE5\RH9HXTP3\MCj04404060000[1].png"/>
          <p:cNvPicPr/>
          <p:nvPr/>
        </p:nvPicPr>
        <p:blipFill>
          <a:blip r:embed="rId2"/>
          <a:stretch/>
        </p:blipFill>
        <p:spPr>
          <a:xfrm>
            <a:off x="2700360" y="1341360"/>
            <a:ext cx="3887640" cy="388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8f8f8"/>
                </a:solidFill>
                <a:latin typeface="StarbabeHmkBold"/>
                <a:ea typeface="NtMotoyaKyotai"/>
              </a:rPr>
              <a:t>て　ん　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429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773360"/>
            <a:ext cx="3816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か 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4520" y="1125360"/>
            <a:ext cx="2793960" cy="2808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609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i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5373720"/>
            <a:ext cx="6732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かぜが、つよ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rot="1074600">
            <a:off x="0" y="3860280"/>
            <a:ext cx="2879640" cy="242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48000" y="4076640"/>
            <a:ext cx="5796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f8f8f8"/>
                </a:solidFill>
                <a:latin typeface="NtMotoyaKyotai"/>
                <a:ea typeface="NtMotoyaKyotai"/>
              </a:rPr>
              <a:t>つよいかぜ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3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29:37Z</dcterms:created>
  <dc:creator>Nan Shastry</dc:creator>
  <dc:description/>
  <dc:language>en-US</dc:language>
  <cp:lastModifiedBy>Ministry of Education</cp:lastModifiedBy>
  <dcterms:modified xsi:type="dcterms:W3CDTF">2010-06-12T09:39:38Z</dcterms:modified>
  <cp:revision>56</cp:revision>
  <dc:subject/>
  <dc:title>Blue Sky Border</dc:title>
</cp:coreProperties>
</file>